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775-4D20-407B-AF5F-5F4F5FC2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CFA-7E65-4588-9D89-F27AFCED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E60-1D58-4E29-9C50-CA80A444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A59-8FA8-4FF6-B0D3-D47DF8A8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300-00A3-466D-86A1-91CAFBC6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0BC-DF96-4C41-908D-22C81A39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DB0-3A65-4189-B32C-4FF329A4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0B2-7860-426D-AF5C-DD16C663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DF6-5F40-405F-A2E5-6566A0A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A28-6575-4E22-AF5F-3E4A06C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D4B-6DD9-45C2-B9ED-800A7708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ADD-A90D-4FBA-96DC-C347C44F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7A27-0607-498C-A997-CF284CAEA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4:39Z</dcterms:modified>
  <cp:revision>8</cp:revision>
  <dc:subject/>
  <dc:title>Le chien</dc:title>
</cp:coreProperties>
</file>